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E48-6A23-40CB-9CC7-AAF617CB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D5F-4784-4C8F-858D-2C34E9F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4F88B-8AD2-4E93-92CA-AFEC6A8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5EEF4-70C0-49E9-A3A1-C3B60E18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E360-05B1-4993-8361-53E0ECD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4671-2B73-41B1-A201-C44706E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663A-4917-4589-91EB-3EDB370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A7AE6-158D-45D4-A23A-0393E98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7B9B3-937F-4D17-BA9E-11ECFB6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229D9-20DA-4DCB-8C4C-BD265E50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80F3-3E9A-4D9F-8110-FFE616A9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3A734-054F-45BE-9B65-0223FC5C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9F9-31CD-4789-8002-5EF7FD18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1A13A-C669-4BA6-B13C-46E9109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4213E-B22D-4D4C-B5F5-872E300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62346-FC2C-4CF2-94F3-CDF0D6F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8595A-2362-4681-8F1D-62D26C3B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5DEF5-9E19-4B35-8FF8-DA5EA75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6C287-1A3D-48D8-BBE9-A37A0A1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8F773-8184-475C-82C5-E7517D2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59E8F-5CC0-46FD-A1DE-5008B95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D7C6-5CD6-44DD-B445-5794DCA5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E4B7E-0D96-45ED-B349-E1EEA17C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9A7-BBA4-461C-A198-6977D5BE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DDB41-7AB7-4F96-8225-5BB2C01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98EA6-7966-4AD2-9825-8269777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26D1-E308-4E0D-85D9-4AAD8D37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8657F-FF22-4CC6-8151-4EC32C1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3378C-E894-4695-97BE-167C82D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1195-F380-4A84-AC01-09C7661E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3580-062A-48CF-A55C-62628BD0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D58C8-98E3-4549-98A1-1E75C72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0737-6F9F-4275-890F-5ED43F0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0B8BD-5E09-4B58-BB67-8F7D0A0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5BFC-1838-4EC9-B04D-A6CFA798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3E38E-CB85-43F1-9C4F-8DED34E5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44F23-1E8E-4A8A-973B-BAEE74D1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ED06-53B4-4F82-9B41-6C14FC79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1669-1597-401D-A9E4-DC165E3B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231BE-FFC9-4452-89C1-01CE22A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F101E-D036-45B5-A324-21D6CB4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D31CA-76A5-49CF-B0A5-0D23D705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D6DDD-43A9-4726-8AF1-BAECFAD4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9D95-2C9C-45B0-81D3-3E208AA7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83D09-1B7C-48C4-ABEC-0A54D52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22F9-60E9-42EE-A55B-9AC3781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B4740-D5FB-4297-A1CD-6B89B42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E2C0-B4A7-478B-BA63-F8EE5FA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0994F-C35B-4750-994A-8A2ACEF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A7E60-999A-4CF3-B1AB-E47DC2BD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E71D4-398D-4352-A713-CC857A15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5EA81-E0F7-4DE2-B15A-057F84DF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A7B6F-9CAC-42CF-9632-3466857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7343B-AE9F-4B90-AEB4-0F77455D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E1F3-3ECD-4BFE-9F65-8C54E22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4DDED-0913-49B0-95B9-727CC717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2A2-AA43-4D6A-8749-9747B9E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9368C-E29E-4528-BE09-52AE9C6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257B4-65B4-402E-A6D7-9DE9E54B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1BACC-1B79-4C5D-90EB-339AE4B0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DF31A-8AA9-4DFB-BA36-954633C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BB24F-B028-4E90-BFC6-52D80661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B91B8-8E33-433D-B7D5-7DB8003B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17D95-5D15-479E-9F15-AF37493E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D2C5A-53B2-4A45-A49E-AFBE61AD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BB9B2-7335-4A7A-8F55-2B894EF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4D913-28F6-4221-BB45-4F584DF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BCD-4732-477F-B825-3D2BD07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1A2D7-D830-491D-9B73-69EBCD56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76AE9-1006-4CC3-B059-49399B9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74212-296E-451B-8ACF-0798D70E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F56B7-0213-4B2F-B8CF-50E1A94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4A46C-782A-461F-80B6-706971D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DF990-260D-4910-B79F-20CC820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BC20F-B16D-4598-BC9D-67E9AA3D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61109-6948-4B4C-864D-23123946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856E4-3CEF-482F-B10C-28AF8BB6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C0254-72D4-4062-9FCF-F9FBF96D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944-CE18-4E04-B631-8B49F7F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ED453-422C-445B-9667-1E83542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3F33F-EA30-4F98-9BBE-0B9AE64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7317C-4C4C-40BB-85D4-660FD01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51235-1FEB-40B9-8154-66E1503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4AE13-2A2F-4DC3-97B4-23ACFD81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C811B-8DE6-4E1D-841F-84C5E76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3BAC9-8595-41D3-A095-F5DF9F0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CDB16-C3CA-4B4F-B2E6-245DCCC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1FFEC-5895-4CA9-8DC7-C5C3C03F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69B8-42D8-45CC-BDDE-52042FE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43FB-6C73-4AE6-B496-0F03D91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33D98-4880-400F-AE39-9E31F211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C6EEE-404A-4BA1-9761-4A77D5D0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2D096-8EDB-422C-B8CB-60BF4F1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9FF51-59CD-4DFD-8355-68BE4BB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3BABF-3A58-4D37-830C-02FE2FD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A4E27-3C58-4478-A44F-1E8FBE90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9C9EC-99F8-4809-B3BD-F75BE31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F0857-9D7E-4C49-8B82-98C4D63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2E60D-11E5-4723-8571-7D2015D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2E829-20C5-4197-92CE-BAE0320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F155-57A9-4F6D-95C0-0510E5C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37622-B256-476C-B4E0-EC7B4AA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3796F-DF0C-4B14-BE06-68C4976D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BD7F4-1891-4C90-8C35-E2524F9F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18BEC-5D62-4833-9AA4-8ED32438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99CF4-CA05-47AE-94C8-701426D8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E14B6-9FA5-44A3-AFCD-3CE6AE75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55735-5E9C-4C97-BCBE-9EFBD7C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378A4-79ED-452A-88DB-1B67B18C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09020-312B-413D-AF3E-87628AF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29BD5-027B-4827-AA91-67C6407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5D1-1B54-46CC-A389-CFC956D8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F62-987A-45A2-8984-9E73184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D5940-AB3E-4B26-873B-44A3C5B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96467-0BA5-4AAC-B223-558CE4B8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18E69-B99B-453C-B3AA-D80E4F8A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78B55-6DA1-4370-AB1D-16BF8A9A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834B6-3997-4DE8-9748-4F82ADC1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D041F-066A-4B0D-95B7-61573C9B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02F4A-52DF-45C8-B77E-741AD435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117DE-374D-4978-84B4-44722E0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7F70B-33F0-4AA7-8BD3-E7C9CF0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91A77-D22F-4E0F-ADA2-00A44565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001A-2066-4F92-8078-1F1E4E4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44820-4073-4785-8221-2F0F81C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3861F-A404-4209-9492-4486D8D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F9C5C-7CE9-4404-9ED7-6A67A4F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367F9-EB7D-4529-8E25-D39492DE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73DDA-B770-4A7B-B307-DB9902DC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BF7F2-95D8-47CD-88B0-CF83C087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BE8C3-DFBE-4922-BE4C-9F1E27E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3DDEA-1688-413F-B85E-00608F38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5AABD-B07B-46F1-A3E1-3CA8A18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88C48-A39C-41E9-B2AB-C87CC044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27B8-94DF-42EC-94AA-FDD23AF6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AB619-6E2E-4636-8C49-97839083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0504B-D359-40C9-80BC-2DDA184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7D926-87F7-4647-B43A-B1D4BAEC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B67F3-5D4C-48AD-85EA-D37B0DC8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94A90-168C-4B07-920A-CF426C4E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69476-80EF-4AA0-9A7F-D537852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5AB5C-10AE-463D-9E1B-4BA3ED87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E54C9-2270-40E4-B8B0-39AEC1D4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32664-EF09-465E-A160-F68E8B4C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B151-357F-4F95-82E1-E2737023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5A5C-87AB-4DCC-9D44-504DB076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6DE8-4475-4661-871E-13452D81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7478-357A-42D6-8487-B612282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045A-F166-403E-B5BF-F128D11A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DA0F-3E5A-4710-8522-EB8CDA4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8746-38CB-44EC-A0B9-0B58E7FD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EA0-4C63-4121-ABA6-902BA89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CB28-8487-4964-8E4F-5B70AA3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B4E0-C171-4039-963E-5C026F5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4331-807F-4F38-9CA3-82607C1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CDC9-9D9F-4910-AB46-4198824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0C42-A80C-41C6-80A5-5973E457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032D-0B59-45F9-AC69-0EEDA3C9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DE88-EE63-4AE8-8D2C-6391012B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29C0-BC11-41F5-B1F7-58B9ED7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A777-B368-4E32-953A-63E979C0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104E-25C4-4BC4-B7E3-B10C7E3B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B78-1059-472C-B50A-240B95AE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ECB7-145C-418B-9CCC-973C872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C210-7688-4DEC-B127-4A9B60D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EE7A-54ED-4783-BBFD-07C6E6E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05FF-BDF8-4755-8D75-0ECAD84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2C3A-5582-4EF6-9FFF-86FABCE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B2E1-880E-4E15-BD3E-5829FF4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400B-D33E-4CB2-99CA-E3FC044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44F3-34A9-4431-9DEA-9C90D2F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622A-AC23-4ADB-85EC-191FDEF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C9807-2C6E-4F15-9791-E19B945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423-8AA0-4005-BBBE-FB8FFF52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E2E7-E73E-4542-A334-D808E43F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7AE4-F78D-4225-8A40-D20E001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8A48-E05F-424A-AD63-5476728A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AD01-E94C-4B0A-8043-FE5DE05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60A1-8E1B-4F4F-8AB0-C30E6D6D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41F9-CE14-43B0-8065-04E7577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DFB4-6CB4-4CEB-A1BD-85700BE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E053-E158-4F7F-AF49-28A9BD8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F36C-B354-43A1-8041-A2C88C3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BCAA-6914-47FF-8E0A-D5AE1388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AC6-295E-48EA-8797-16CE2F58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CED3-C566-47B0-9452-658BEE05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5E6BC-31C1-4F1E-9017-51D4A73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D084-0364-4BB6-B47E-D438495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42F1-D074-463B-B037-3F034DCC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7B49-0D4B-4912-AD2A-47E01554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A8395-99E0-4FF2-A93A-3D1DC4B3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E066-F08A-4DEE-8890-94F94909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DD9C-9B65-44D6-A336-D6E7A97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99025-F533-4A98-A8F9-206E3303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678F3-9FDB-4FBD-BDD6-FEE20D7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EA2-7947-4C7E-87F6-1E9AD758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93BA-B8EA-4686-9354-CFC7E997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29F7-832A-424C-9CEA-5D494364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8F46-D5F9-4C5C-B19F-70C23604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0F77-FE14-4BFA-A16E-02666617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E62C-AD9D-4DC6-A644-9A0CB2E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4B0F-FE56-4DF3-AB1C-3A53222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DF58-2069-49AC-9178-5F75F6E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29E1-66D5-459A-B384-A91E9E9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A2A5E-4A5D-4B07-9573-EACD4715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E874-C4A8-4DBB-A44F-83C882E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1F9-0A5C-4EFF-95A5-E35246E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5397-98A3-4AF4-B6BD-0FECCE52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CC34-F49A-43B1-B224-8C36ABA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750E-B40C-469F-80E3-4C40F33F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34E2-7681-4596-AD79-5DC2B449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D124-5442-4A3B-9676-EC32932C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74DF4-1569-4E13-97AA-8DF417D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FB275-7C62-48F3-B78C-DDB7E51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65D61-C962-4375-806E-13624DCF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047C-81AE-4F8E-917C-6A12446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476E-A9E4-4431-A64F-818E409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4D2-67C2-4103-B0A2-BD4CB68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6FBB8-3634-4D6C-8AB0-2F9F94E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6897-CF12-4986-A46E-9DC475CE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E16E7-E868-47B8-A70F-F0B8E0A4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887D-354F-4164-B878-270D97DB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EC22-6902-4FC2-8E14-CBFE0883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5FBF-D234-4E5A-94A5-1E1B4DD6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5DC8F-16DA-4ED5-B03A-9AE3069F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30C7F-A9CA-4DF7-9209-90FA485D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CB57F-2563-477E-911D-F88D845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D813-808B-4AA7-A400-4616BF2B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35F1-89D8-4414-A062-17C2D12C372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F53D-1048-49DF-83FF-5002434651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5779-6455-40B8-B189-33CE3B31FCE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4147-EDAB-4031-88D9-D3227195F9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E95B-04AF-43B6-B440-0CEEE8DE054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28D-8BA6-4694-B177-867D11CDFE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B6EE-711C-4416-A760-E516DD86907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8A7-4093-405F-8A39-069C0150FA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A01-26B7-4A45-BBF0-CF97DE7F139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6D5-7D78-480D-8EFA-8C28693395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E8C2-8AFC-4287-91DC-BFD5DD66B43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151E-91C0-4407-B969-141BB8AE78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E276-4A0C-4D7C-B276-AC18E2B0E9E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E2F9-7C5B-449B-9DAC-BAEA5C177E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84B-EEBD-4126-AAF3-EAD525A860E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7379-D7CB-4275-8926-8104C93E65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ABC3-CB1F-4742-AC6E-467598332BD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136-11DF-44D9-9138-E8B8EBE4B4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552C-4755-487A-B1C4-6F7514C1892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A52-85B4-469F-A6A5-22094E77FF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9B9-B55D-4C4D-B427-93CEDB89976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DC66-B9E1-4E32-9119-FC7D3F6423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574-14B8-474E-8CE8-A02ABCE2585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99D-0370-4503-B476-E7382BD0C0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EFA-BBB0-4770-BBB5-5CFBF7E2A51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2D37-353E-41DB-9BA2-8A70E106AD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6AE-F449-45BB-AFFB-9455110FB9D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E75-8E61-4EF2-81A9-0A5FF14B32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060A-3E66-4AB1-81DA-41C41128F33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6F68-234D-4900-8776-7B753B5D7B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C01-833D-4C90-A052-DD7B22C8F5E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ADA-545B-484A-9242-EA6DFC5F18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A91-E0CB-4600-9716-5FB744197FF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CCE-FB7A-4414-A79C-D4A920CAA5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810-E3D8-4AA1-AFC2-8ACA125D48E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1D4-F22F-4627-A6C2-21D072A930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CB42-5D60-4C50-9953-2B2CDCC872B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56ED-86A1-4A35-BB28-BFE6FE1779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A1DC-C66F-42B9-BEB6-D1B0D3111132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C650-E5EA-460D-9FAD-D08F87E93C7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  <a:ea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5"/>
          <p:cNvSpPr/>
          <p:nvPr/>
        </p:nvSpPr>
        <p:spPr>
          <a:xfrm>
            <a:off x="208080" y="3071880"/>
            <a:ext cx="14475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900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  <a:ea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25E6-1B30-455A-92AF-90C53688D49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8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0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A63C-5FA4-45CA-915B-41AB0E411A0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EB56-E002-4979-AF5C-0EF07DE02E6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0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  <a:ea typeface="Arial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  <a:ea typeface="Arial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2972-BB01-49DA-B084-C992C296C4EA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616-2702-4190-816D-0B9670007EE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8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660-B083-4F55-8A49-00B55996E2D4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  <a:ea typeface="Arial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022B-B585-4A24-99C3-92143198B499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0884-3A34-4DA5-81BF-AAEA238785F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1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  <a:ea typeface="Arial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  <a:ea typeface="Arial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  <a:ea typeface="Arial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  <a:ea typeface="Arial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1487-59BE-4B38-8539-994D6DC5F7F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5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6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y libera e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9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0D1-D974-4EF5-847B-0B51E6CA792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de A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  <a:ea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B17B-0E05-42C3-ADB9-06C120C335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EC38-B077-4B28-9223-B79726F014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6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  <a:ea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4F9-056B-4D4A-A2EE-06F19E2F710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60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385-13BF-47E5-829F-063BABE9062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8AC2-6202-47DB-8D77-9D88CFA359F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131-BFBF-4A57-8332-F878252E759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ITU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C49-101A-434C-900F-93B61A2E71D5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17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  <a:ea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  <a:ea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1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22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23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3 CuadroTexto"/>
          <p:cNvSpPr/>
          <p:nvPr/>
        </p:nvSpPr>
        <p:spPr>
          <a:xfrm>
            <a:off x="3448800" y="180324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5" name="5 Conector recto de flecha"/>
          <p:cNvCxnSpPr/>
          <p:nvPr/>
        </p:nvCxnSpPr>
        <p:spPr>
          <a:xfrm flipV="1">
            <a:off x="3924000" y="1802880"/>
            <a:ext cx="1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27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28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4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55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56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57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66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ethel</cp:lastModifiedBy>
  <dcterms:modified xsi:type="dcterms:W3CDTF">2015-05-08T12:53:12Z</dcterms:modified>
  <cp:revision>170</cp:revision>
  <dc:subject/>
  <dc:title>Presentación de PowerPoint</dc:title>
</cp:coreProperties>
</file>